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7287-B360-46B0-9A8B-83022CC41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A8E0-C59B-4AB1-AFC8-C5EE7AB72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82F7-8214-4168-8BA5-C1C0837F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13E8-1B55-4FAF-930B-9F335C1B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614C-4C1A-4841-92D1-0D9F038B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186E-78A7-4656-BC6E-0C499EF9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CE74-F7F7-4D34-BF26-09AD02D7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C6C9-25DB-4845-A1E4-962C4A3E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FFA7-B63E-4465-A110-A5BE9F26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BAED-92BD-42F4-B904-F8024584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369C-C726-435B-B453-A80D3A9B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BB32-3ED9-43D3-9E05-CFF3B889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BA889-C9DD-4853-AEDA-FEC6D474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96F9-6731-4321-9B2E-12BFE1F4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70A7-AC57-42C7-BF51-83B3DC28F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0D85-56E8-465C-8849-6A415E0D5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ob Bev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012 RMS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2120" y="198072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: Rob Bevil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42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Mountain Energy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: Kathy Scot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42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Point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0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S Structure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647640" y="1562040"/>
            <a:ext cx="7696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n schedule of monthly meetings throughout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“go / no-go” decision on face-to-face meeting based on the agenda planning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may be cancelled or held via WebEx at the leadership’s discre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S Workshop – DR data access for LSEs with loads in SCE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10666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on TAC support in Oct 2011 of WMS recommendation to further develop the “LMP minus G” option for settleme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ads-in-SC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referral to RMS to review the mechanism for communicating the reduction in M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oal of the workshop will be to provide recommendations to the RMS regarding the following: 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LMP-G represe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value does this information prov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whom and how does this information need to be transferre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:  February 9, 20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: 9:30 AM – 3:30 P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:  ERCOT Met Ce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Bevill, Rob</cp:lastModifiedBy>
  <dcterms:modified xsi:type="dcterms:W3CDTF">2012-01-30T17:40:23Z</dcterms:modified>
  <cp:revision>129</cp:revision>
  <dc:subject/>
  <dc:title>Instructions</dc:title>
</cp:coreProperties>
</file>